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32F05-ECC0-4EDD-8B0E-822C736A8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4D4C6-57F2-49E8-8CDD-CC74273FF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D124C-E6F9-4223-85DF-1ABE2E74F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24F11-1140-4C0F-B9FE-6F0988CFC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2D558-B281-4679-AFBE-98CDE73BE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1805F-1D61-4999-8C8F-DB2190424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D2EE2-2522-42B4-AD12-6558873DF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0CB9E-3ED1-454A-9254-132F2F300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1528B-4C5D-4B1C-A296-EE69B8011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1EA10-2086-4059-8D72-9FEB4EFC3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31DC4-93ED-42B5-A4A2-944926A5B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045F0-36B3-4EDE-8344-334E2CE35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6E074-021F-489B-A872-946F40AB57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438280" y="1295280"/>
            <a:ext cx="4038840" cy="52484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04920" y="228600"/>
            <a:ext cx="853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cc00"/>
                </a:solidFill>
                <a:latin typeface="Arial Rounded MT Bold"/>
              </a:rPr>
              <a:t>Wir k</a:t>
            </a:r>
            <a:r>
              <a:rPr b="0" lang="en-US" sz="3600" spc="-1" strike="noStrike">
                <a:solidFill>
                  <a:srgbClr val="99cc00"/>
                </a:solidFill>
                <a:latin typeface="Arial Rounded MT Bold"/>
                <a:ea typeface="Arial"/>
              </a:rPr>
              <a:t>önnen mal nach Deutschland fahre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7086600" y="4800600"/>
            <a:ext cx="17524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el Schu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itz Thom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ustav Ry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rcRect l="0" t="38479" r="0" b="15834"/>
          <a:stretch/>
        </p:blipFill>
        <p:spPr>
          <a:xfrm>
            <a:off x="304920" y="1905120"/>
            <a:ext cx="8534160" cy="452592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ir fahren nach Baden-Baden von Chicago. Es kostet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€1411.86 für alle un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rcRect l="1122" t="12640" r="0" b="25571"/>
          <a:stretch/>
        </p:blipFill>
        <p:spPr>
          <a:xfrm>
            <a:off x="1143000" y="2362320"/>
            <a:ext cx="6705720" cy="335268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30592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ir gehen nach Baden-Baden, Rheinau, und Rheinmünster mit einer Privat Chaufferi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6T17:11:13Z</dcterms:created>
  <dc:creator>CUSD220</dc:creator>
  <dc:description/>
  <dc:language>en-US</dc:language>
  <cp:lastModifiedBy>CUSD220</cp:lastModifiedBy>
  <dcterms:modified xsi:type="dcterms:W3CDTF">2012-01-06T17:43:48Z</dcterms:modified>
  <cp:revision>2</cp:revision>
  <dc:subject/>
  <dc:title>Slide 1</dc:title>
</cp:coreProperties>
</file>